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46A2-3569-40B2-B421-FEFBD28B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2D4B-6DF7-46F9-8EB5-888084C6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755-D1E9-4951-906D-C3AC67C4E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AFB1-D605-4E40-8705-71C6312D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7CB8-C527-406D-9031-034E1CB5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F2DF-69CA-47F9-BC30-8FDE0043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653D-2DA5-44E9-BB4F-E53418A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8C5-B599-4C4E-AEEF-94E9575E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5FF7-ADC5-4138-BC30-C923FDB1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B326-96D8-4CC3-97F2-1D97FA66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EB5-3407-4B5E-80A7-75DAE854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5E6F-AD56-4D4F-BFD9-A55E5992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CA5-29B4-44E6-9694-296DBE814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y Mor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/1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issu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“thymocyte” to replace imm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definitions more precise. DN1 thymocyte  - CD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4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concept of naïve versus antigen experienced T cell - instead of “matur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dditional T helper subsets - introduce transcription factors as part of the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1360" y="58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 cel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3840" y="1447920"/>
            <a:ext cx="8633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 T cell (E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ocyt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mature T cell located in the thym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1 thymoc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2 thymocy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3 thymocyte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e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4 thymocyte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4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thymocy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l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going positiv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going negative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 thymocyt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KT cel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K1.1 (CD56)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1 restri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Treg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8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CR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hi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ipheral 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0" y="1828800"/>
            <a:ext cx="9047160" cy="37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ïve T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not exposed to antigen; blood and lymphoid organs (nTreg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or T cel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gen experienced; blood &amp; peripheral tissues (help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tigen experienced; blood &amp; peripheral tissu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ytotoxic perforin and granzyme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T cell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or Memory T 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g experienced; blood &amp; periph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 experienced; blood &amp; periph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al Memory T c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L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g experienced; blood &amp;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CR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D62+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L-7R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 experienced; blood &amp; lymphoid org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ffector T cells (help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2680" y="1523880"/>
            <a:ext cx="730548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1 (Th1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-bet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FN-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immunity to intracellular pathogens; D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2 (Th2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ATA-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L-4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moral immunity; immunity to extracellular paras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helper 17 (Th17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OR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produce IL-17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llular immunity; immunity to extracellular bact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eg 1 (Tr1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IL-10; (no signature T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immun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ed Treg (iTreg)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D25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oduce TGF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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L-10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 immune respon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s of effector T cells (cytotoxi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4320" y="1981080"/>
            <a:ext cx="82306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toxic T cells (CTL)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i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nzyme 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ll infected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1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-b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om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FN-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ill infected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2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GATA-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ヒラギノ角ゴ ProN W3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L-4. IL-13; less cytotox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17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en-US" sz="1800" spc="-1" strike="noStrike">
                <a:solidFill>
                  <a:srgbClr val="000000"/>
                </a:solidFill>
                <a:latin typeface="ヒラギノ角ゴ ProN W3"/>
              </a:rPr>
              <a:t>RO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ヒラギノ角ゴ ProN W3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duce IL-17; ?cytotox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g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xP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ppress immune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3:14:05Z</dcterms:created>
  <dc:creator>Penelope Morel</dc:creator>
  <dc:description/>
  <dc:language>en-US</dc:language>
  <cp:lastModifiedBy>Penelope Morel</cp:lastModifiedBy>
  <dcterms:modified xsi:type="dcterms:W3CDTF">2008-05-13T12:28:47Z</dcterms:modified>
  <cp:revision>5</cp:revision>
  <dc:subject/>
  <dc:title>T cell ontology</dc:title>
</cp:coreProperties>
</file>